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6B87C-400F-4CAF-988D-46B673312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5AC6-AE4F-4EF4-95FE-AF462ED7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449CD-6FA9-4FED-AE34-350042A4B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858D5-F57D-4A64-9A12-A3749BCD4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79A2-E075-419E-B4DA-55B78A61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FEF33-ED77-4C3C-9E6E-DC042F389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B833-9269-4AB5-8EF0-50CC6142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7A2B-E97E-470E-B8A2-67D8045F9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E88E-95E5-433F-9A33-E45477D3A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13DF-5D97-4375-A946-8C08F401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B2AA-A015-4C7D-982B-B91EFCBB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9581-C6B1-4A74-BCCD-B221F7311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1EF9-D990-47A1-8B0D-20085D408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19051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533520" y="990720"/>
            <a:ext cx="8076960" cy="4909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ro.va.r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cuola secondaria di 1° grado</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rove per la rilevazione di standard di apprendimento</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laborazione anno sc. 2002 - 03</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perimentazione anno sc. 2003 - 04</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resentazione a cura della Prof. ssa Anna Maria Pasqualotto</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 C. Tricesimo - Ud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09480" y="380880"/>
            <a:ext cx="7925040" cy="6006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Alla stesura definitiva si è pervenuti dopo una prima</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omministrazione delle prove in alcune scuole. A seguito dei</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risultati si è proceduto a:</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Riflettere su ciò che si voleva verificare e quindi riformulare gli items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nferire agli items una maggiore gradualità</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Riformulare le consegne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Ricorrere al linguaggio grafico per facilitare l’elaborazione dei dati attraverso la loro rappresentazione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liminare quelle prove che pur nella diversità della formulazione andavano a verificare la stessa competenz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533520" y="533520"/>
            <a:ext cx="807696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stata inoltre introdotta l’autovalutazione. Dopo ogni item l’allievo viene invitato a riflettere sulla risposta data segnando con una x il commento che ritiene adeguat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cala di commento a disposizione dell’alun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Sicuramente giu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Giu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Forse giu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Forse sbagliat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685800" y="1066680"/>
            <a:ext cx="76960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Due gli scopi dell’autovalutazione:</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durre l’allievo a riflettere sulla risposta dat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misurare lo scarto tra il grado di difficoltà percepito dall’allievo e la difficoltà reale</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685800" y="457200"/>
            <a:ext cx="7391520" cy="585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u iniziativa degli operatori della Direzione Regionale si era iniziato ad analizzare le prove sulla base di una griglia metacognitiva allo scopo di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mparare a pensare alle competenze richieste in termini di operazioni mentali</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apire quali sono le operazioni mentali che gli allievi fanno fatica ad attivar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apire se la scuola punta all’attivazione di alcune operazioni e non di altr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valutare se le prove, rispetto a queste operazioni, sono ben costruite. </a:t>
            </a:r>
            <a:endParaRPr b="0" lang="en-US" sz="2400" spc="-1" strike="noStrike">
              <a:solidFill>
                <a:srgbClr val="ffffff"/>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i riporta uno stralcio della tabella metacognitiva nella diapositiva che seg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685800" y="12952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6" name=""/>
          <p:cNvGraphicFramePr/>
          <p:nvPr/>
        </p:nvGraphicFramePr>
        <p:xfrm>
          <a:off x="762120" y="533520"/>
          <a:ext cx="7315200" cy="5714640"/>
        </p:xfrm>
        <a:graphic>
          <a:graphicData uri="http://schemas.openxmlformats.org/drawingml/2006/table">
            <a:tbl>
              <a:tblPr/>
              <a:tblGrid>
                <a:gridCol w="1447920"/>
                <a:gridCol w="2209680"/>
                <a:gridCol w="1828800"/>
                <a:gridCol w="1828800"/>
              </a:tblGrid>
              <a:tr h="65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perazioni</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ementari</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Riconoscer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spressioni, termini, segni,numeri, simbol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perazioni avanzat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Memorizzar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att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rmini, numeri, segn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dicatori spaziali e temporal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Comprender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assificare (natura delle informazion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nferir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dividuare nessi implicit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usali,spaziali, temporal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ornire spiegazioni causal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are prevision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rdinare concett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dividuare criteri di classificazio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457200" y="457200"/>
            <a:ext cx="83059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Esempio delle prove di L1</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lla tabella sottostante vengono riportate alcune caratteristiche di Venezia. Trascrivi nella colonna argomenti( scegliendo fra i tre riportati nei riquadri in basso) quello che ti sembra venga affrontato nei vari riquadri. Tralascia per il momento la colonna su Roma</a:t>
            </a:r>
            <a:endParaRPr b="0" lang="en-US" sz="1200" spc="-1" strike="noStrike">
              <a:solidFill>
                <a:srgbClr val="ffffff"/>
              </a:solidFill>
              <a:latin typeface="Times New Roman"/>
            </a:endParaRPr>
          </a:p>
        </p:txBody>
      </p:sp>
      <p:graphicFrame>
        <p:nvGraphicFramePr>
          <p:cNvPr id="58" name=""/>
          <p:cNvGraphicFramePr/>
          <p:nvPr/>
        </p:nvGraphicFramePr>
        <p:xfrm>
          <a:off x="1523880" y="1397160"/>
          <a:ext cx="6096240" cy="3539880"/>
        </p:xfrm>
        <a:graphic>
          <a:graphicData uri="http://schemas.openxmlformats.org/drawingml/2006/table">
            <a:tbl>
              <a:tblPr/>
              <a:tblGrid>
                <a:gridCol w="1524240"/>
                <a:gridCol w="2895480"/>
                <a:gridCol w="1676520"/>
              </a:tblGrid>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gomenti</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nezia</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ma</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Venne fondata nel periodo delle invasioni barbariche che segnarono la fine dell’Impero Romano d’Occidente. Per sfuggire agli invasori alcuni abitanti di Aquileia (in Friuli) e di altri centri della pianura si stabilirono sulle isolette della laguna.</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governava da sé, sotto la guida di un doge e di un’assemblea costituita dai membri delle famiglie nobili.</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i è estesa sulla terraferma</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 name=""/>
          <p:cNvSpPr/>
          <p:nvPr/>
        </p:nvSpPr>
        <p:spPr>
          <a:xfrm>
            <a:off x="914400" y="540216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523880" y="5410080"/>
            <a:ext cx="62485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 ha governato per molti secoli la città</a:t>
            </a:r>
            <a:endParaRPr b="0" lang="en-US" sz="12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pansione della città</a:t>
            </a:r>
            <a:endParaRPr b="0" lang="en-US" sz="12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igini della città e posizione geografic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 name=""/>
          <p:cNvSpPr/>
          <p:nvPr/>
        </p:nvSpPr>
        <p:spPr>
          <a:xfrm>
            <a:off x="990720" y="9144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a mediante una freccia, della quale si veda chiaramente la punta, i fenomeni mettendo in relazione le cause con le loro conseguenze. Per risolvere l’esercizio rileggi di volta in volta il testo basandoti solo su quello che in esso si afferma. Non devi tener conto dei numeri nei riquadri, servono solamente per le correzioni</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2" name=""/>
          <p:cNvSpPr/>
          <p:nvPr/>
        </p:nvSpPr>
        <p:spPr>
          <a:xfrm>
            <a:off x="1219320" y="38862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asioni barbariche        3</a:t>
            </a:r>
            <a:endParaRPr b="0" lang="en-US" sz="1800" spc="-1" strike="noStrike">
              <a:solidFill>
                <a:srgbClr val="ffffff"/>
              </a:solidFill>
              <a:latin typeface="Times New Roman"/>
            </a:endParaRPr>
          </a:p>
        </p:txBody>
      </p:sp>
      <p:sp>
        <p:nvSpPr>
          <p:cNvPr id="63" name=""/>
          <p:cNvSpPr/>
          <p:nvPr/>
        </p:nvSpPr>
        <p:spPr>
          <a:xfrm>
            <a:off x="4952880" y="411480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e dell’impero romano d’occidente    1</a:t>
            </a:r>
            <a:endParaRPr b="0" lang="en-US" sz="1800" spc="-1" strike="noStrike">
              <a:solidFill>
                <a:srgbClr val="ffffff"/>
              </a:solidFill>
              <a:latin typeface="Times New Roman"/>
            </a:endParaRPr>
          </a:p>
        </p:txBody>
      </p:sp>
      <p:sp>
        <p:nvSpPr>
          <p:cNvPr id="64" name=""/>
          <p:cNvSpPr/>
          <p:nvPr/>
        </p:nvSpPr>
        <p:spPr>
          <a:xfrm>
            <a:off x="2590920" y="5486400"/>
            <a:ext cx="327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itanti della pianura si trasferiscono in laguna          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1066680" y="533520"/>
            <a:ext cx="6172200" cy="243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Esempi delle prove di matematica</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000" spc="-1" strike="noStrike">
                <a:solidFill>
                  <a:srgbClr val="ffffff"/>
                </a:solidFill>
                <a:latin typeface="Times New Roman"/>
                <a:ea typeface="Times New Roman"/>
              </a:rPr>
              <a:t>-A Roma e a Venezia si possono visitare rispettivamente  piazza S. Pietro e piazza S. Marco.</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a superficie delle due piazze è rappresentata dalle due figure sottostanti. Quale delle due piazze è più estes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
          <p:cNvSpPr/>
          <p:nvPr/>
        </p:nvSpPr>
        <p:spPr>
          <a:xfrm>
            <a:off x="144792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 name=""/>
          <p:cNvSpPr/>
          <p:nvPr/>
        </p:nvSpPr>
        <p:spPr>
          <a:xfrm>
            <a:off x="182880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 name=""/>
          <p:cNvSpPr/>
          <p:nvPr/>
        </p:nvSpPr>
        <p:spPr>
          <a:xfrm>
            <a:off x="2209680" y="396252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 name=""/>
          <p:cNvSpPr/>
          <p:nvPr/>
        </p:nvSpPr>
        <p:spPr>
          <a:xfrm>
            <a:off x="297180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 name=""/>
          <p:cNvSpPr/>
          <p:nvPr/>
        </p:nvSpPr>
        <p:spPr>
          <a:xfrm>
            <a:off x="259092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 name=""/>
          <p:cNvSpPr/>
          <p:nvPr/>
        </p:nvSpPr>
        <p:spPr>
          <a:xfrm>
            <a:off x="1447920" y="4724280"/>
            <a:ext cx="38088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 name=""/>
          <p:cNvSpPr/>
          <p:nvPr/>
        </p:nvSpPr>
        <p:spPr>
          <a:xfrm>
            <a:off x="144792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 name=""/>
          <p:cNvSpPr/>
          <p:nvPr/>
        </p:nvSpPr>
        <p:spPr>
          <a:xfrm>
            <a:off x="2590920" y="4724280"/>
            <a:ext cx="38088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 name=""/>
          <p:cNvSpPr/>
          <p:nvPr/>
        </p:nvSpPr>
        <p:spPr>
          <a:xfrm>
            <a:off x="2209680" y="4724280"/>
            <a:ext cx="38124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 name=""/>
          <p:cNvSpPr/>
          <p:nvPr/>
        </p:nvSpPr>
        <p:spPr>
          <a:xfrm>
            <a:off x="2209680" y="434340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 name=""/>
          <p:cNvSpPr/>
          <p:nvPr/>
        </p:nvSpPr>
        <p:spPr>
          <a:xfrm>
            <a:off x="1828800" y="4724280"/>
            <a:ext cx="38088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 name=""/>
          <p:cNvSpPr/>
          <p:nvPr/>
        </p:nvSpPr>
        <p:spPr>
          <a:xfrm>
            <a:off x="259092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297180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 name=""/>
          <p:cNvSpPr/>
          <p:nvPr/>
        </p:nvSpPr>
        <p:spPr>
          <a:xfrm>
            <a:off x="3352680" y="434340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 name=""/>
          <p:cNvSpPr/>
          <p:nvPr/>
        </p:nvSpPr>
        <p:spPr>
          <a:xfrm>
            <a:off x="3352680" y="396252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 name=""/>
          <p:cNvSpPr/>
          <p:nvPr/>
        </p:nvSpPr>
        <p:spPr>
          <a:xfrm>
            <a:off x="624852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 name=""/>
          <p:cNvSpPr/>
          <p:nvPr/>
        </p:nvSpPr>
        <p:spPr>
          <a:xfrm>
            <a:off x="5867280" y="434340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 name=""/>
          <p:cNvSpPr/>
          <p:nvPr/>
        </p:nvSpPr>
        <p:spPr>
          <a:xfrm>
            <a:off x="510552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 name=""/>
          <p:cNvSpPr/>
          <p:nvPr/>
        </p:nvSpPr>
        <p:spPr>
          <a:xfrm>
            <a:off x="4724280" y="434340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486400" y="434340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624852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867280" y="396252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548640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 name=""/>
          <p:cNvSpPr/>
          <p:nvPr/>
        </p:nvSpPr>
        <p:spPr>
          <a:xfrm>
            <a:off x="5105520" y="3962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4724280" y="396252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1" name=""/>
          <p:cNvSpPr/>
          <p:nvPr/>
        </p:nvSpPr>
        <p:spPr>
          <a:xfrm>
            <a:off x="5867280" y="4724280"/>
            <a:ext cx="38124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5486400" y="4724280"/>
            <a:ext cx="38088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3" name=""/>
          <p:cNvSpPr/>
          <p:nvPr/>
        </p:nvSpPr>
        <p:spPr>
          <a:xfrm>
            <a:off x="5105520" y="4724280"/>
            <a:ext cx="38088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 name=""/>
          <p:cNvSpPr/>
          <p:nvPr/>
        </p:nvSpPr>
        <p:spPr>
          <a:xfrm>
            <a:off x="4724280" y="4724280"/>
            <a:ext cx="381240" cy="38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5" name=""/>
          <p:cNvSpPr/>
          <p:nvPr/>
        </p:nvSpPr>
        <p:spPr>
          <a:xfrm>
            <a:off x="5486400" y="5105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 name=""/>
          <p:cNvSpPr/>
          <p:nvPr/>
        </p:nvSpPr>
        <p:spPr>
          <a:xfrm>
            <a:off x="5105520" y="5105520"/>
            <a:ext cx="38088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7" name=""/>
          <p:cNvSpPr/>
          <p:nvPr/>
        </p:nvSpPr>
        <p:spPr>
          <a:xfrm>
            <a:off x="4724280" y="5105520"/>
            <a:ext cx="381240" cy="380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 name=""/>
          <p:cNvSpPr/>
          <p:nvPr/>
        </p:nvSpPr>
        <p:spPr>
          <a:xfrm>
            <a:off x="1600200" y="55627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p.zza S.Marco</a:t>
            </a:r>
            <a:endParaRPr b="0" lang="en-US" sz="1600" spc="-1" strike="noStrike">
              <a:solidFill>
                <a:srgbClr val="ffffff"/>
              </a:solidFill>
              <a:latin typeface="Times New Roman"/>
            </a:endParaRPr>
          </a:p>
        </p:txBody>
      </p:sp>
      <p:sp>
        <p:nvSpPr>
          <p:cNvPr id="99" name=""/>
          <p:cNvSpPr/>
          <p:nvPr/>
        </p:nvSpPr>
        <p:spPr>
          <a:xfrm>
            <a:off x="4724280" y="58672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p.zza S.Pietr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
          <p:cNvSpPr/>
          <p:nvPr/>
        </p:nvSpPr>
        <p:spPr>
          <a:xfrm>
            <a:off x="990720" y="609480"/>
            <a:ext cx="7391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nezia dista da Roma 630 km .Due pullman partono da Venezia diretti a Roma.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pullman A parte alle 7.00 e viaggia a 45 Km orar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pullman B parte alle 11.00 e viaggia a 90 Km orar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za il disegno seguente e poi rispondi alle domande:</a:t>
            </a:r>
            <a:endParaRPr b="0" lang="en-US" sz="1800" spc="-1" strike="noStrike">
              <a:solidFill>
                <a:srgbClr val="ffffff"/>
              </a:solidFill>
              <a:latin typeface="Times New Roman"/>
            </a:endParaRPr>
          </a:p>
        </p:txBody>
      </p:sp>
      <p:sp>
        <p:nvSpPr>
          <p:cNvPr id="101" name=""/>
          <p:cNvSpPr/>
          <p:nvPr/>
        </p:nvSpPr>
        <p:spPr>
          <a:xfrm>
            <a:off x="1295280" y="2819520"/>
            <a:ext cx="6477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066680" y="3429000"/>
            <a:ext cx="6782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295280" y="411480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411480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209680" y="411480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666880" y="411480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2004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6576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1148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5720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0292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4864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436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4008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8580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315200" y="4114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44792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19320" y="4343400"/>
            <a:ext cx="7162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        45         90       135       180       225       270      315     360      405      450     495       540      585      630 Km</a:t>
            </a:r>
            <a:endParaRPr b="0" lang="en-US" sz="1200" spc="-1" strike="noStrike">
              <a:solidFill>
                <a:srgbClr val="ffffff"/>
              </a:solidFill>
              <a:latin typeface="Times New Roman"/>
            </a:endParaRPr>
          </a:p>
        </p:txBody>
      </p:sp>
      <p:sp>
        <p:nvSpPr>
          <p:cNvPr id="119" name=""/>
          <p:cNvSpPr/>
          <p:nvPr/>
        </p:nvSpPr>
        <p:spPr>
          <a:xfrm>
            <a:off x="18288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36232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7432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27672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6576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19112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5720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10552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4864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295280" y="518148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238880" y="518148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8580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324480" y="518148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943600" y="518148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43000" y="548640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0                   90                 180              270                360             450              540             630 Km</a:t>
            </a:r>
            <a:endParaRPr b="0" lang="en-US" sz="1400" spc="-1" strike="noStrike">
              <a:solidFill>
                <a:srgbClr val="ffffff"/>
              </a:solidFill>
              <a:latin typeface="Times New Roman"/>
            </a:endParaRPr>
          </a:p>
        </p:txBody>
      </p:sp>
      <p:sp>
        <p:nvSpPr>
          <p:cNvPr id="134" name=""/>
          <p:cNvSpPr/>
          <p:nvPr/>
        </p:nvSpPr>
        <p:spPr>
          <a:xfrm>
            <a:off x="304920" y="403848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llman A</a:t>
            </a:r>
            <a:endParaRPr b="0" lang="en-US" sz="1200" spc="-1" strike="noStrike">
              <a:solidFill>
                <a:srgbClr val="ffffff"/>
              </a:solidFill>
              <a:latin typeface="Times New Roman"/>
            </a:endParaRPr>
          </a:p>
        </p:txBody>
      </p:sp>
      <p:sp>
        <p:nvSpPr>
          <p:cNvPr id="135" name=""/>
          <p:cNvSpPr/>
          <p:nvPr/>
        </p:nvSpPr>
        <p:spPr>
          <a:xfrm>
            <a:off x="838080" y="3429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e 7.00</a:t>
            </a:r>
            <a:endParaRPr b="0" lang="en-US" sz="1200" spc="-1" strike="noStrike">
              <a:solidFill>
                <a:srgbClr val="ffffff"/>
              </a:solidFill>
              <a:latin typeface="Times New Roman"/>
            </a:endParaRPr>
          </a:p>
        </p:txBody>
      </p:sp>
      <p:sp>
        <p:nvSpPr>
          <p:cNvPr id="136" name=""/>
          <p:cNvSpPr/>
          <p:nvPr/>
        </p:nvSpPr>
        <p:spPr>
          <a:xfrm>
            <a:off x="838080" y="4800600"/>
            <a:ext cx="914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106668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e 11.00</a:t>
            </a:r>
            <a:endParaRPr b="0" lang="en-US" sz="1200" spc="-1" strike="noStrike">
              <a:solidFill>
                <a:srgbClr val="ffffff"/>
              </a:solidFill>
              <a:latin typeface="Times New Roman"/>
            </a:endParaRPr>
          </a:p>
        </p:txBody>
      </p:sp>
      <p:sp>
        <p:nvSpPr>
          <p:cNvPr id="138" name=""/>
          <p:cNvSpPr/>
          <p:nvPr/>
        </p:nvSpPr>
        <p:spPr>
          <a:xfrm>
            <a:off x="304920" y="5029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llman B</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
          <p:cNvSpPr/>
          <p:nvPr/>
        </p:nvSpPr>
        <p:spPr>
          <a:xfrm>
            <a:off x="838080" y="1371600"/>
            <a:ext cx="73152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o tempo impiega il pullman A per arrivare a Rom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he ora arriva il pullman B a Rom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e ore  15.00 i pullman si incontrano.Quanta strada hanno percor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762120" y="609480"/>
            <a:ext cx="74674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Obiettiv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laborare delle prove che consentissero di definire degli standard di apprendimento in uscita dalla scuola primaria ossia ciò che un allievo alla fine di questa scuola dovrebbe saper fa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Gli standard si rilevano dall’elaborazione statistica dei risultati: a seconda di come gli allievi si distribuiscono nella curva gaussiana; è possibile stabilire quali sono le competenze standard ma anche individuare competenze verso cui tender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1143000" y="838080"/>
            <a:ext cx="73915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prove sono state somministrate in due giornate diverse: gli allievi hanno eseguito nella prima giornata le prove di L1 (fascicolo 1) e nella seconda giornata le prove di matematica e di L2 (fascicolo 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compilazione di ciascun fascicolo ha richiesto mediamente un’or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 la correzione, nonostante tutte le risposte fossero chiuse, è stato necessario concordare un correttore che però non ha risolto tutti i dubb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tabulazione dei risultati, nonostante si disponesse di un foglio excel a ciò predisposto, è risultata laborio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990720" y="1676520"/>
            <a:ext cx="7162560" cy="4894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iteri per l’individuazione delle competenze:</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 competenze devono essere trasversali</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 competenze devono riguardare l’uso dei codici fondamentali</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 competenze devono implicare il ricorso all’operatività intesa come modalità didattica per consentire operazioni astratte</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990720" y="1295280"/>
            <a:ext cx="76197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odici coinvolti sono stat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il codice verbale di L1 e L2 (ingles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il codice matema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990720" y="1143000"/>
            <a:ext cx="70866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competenze hanno riguardat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1.   la comprensio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2.   la transcodificazione (la traduzione di un’informazione da un codice all’altr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3.   la soluzione di problem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4.   la produzione intesa come completamento di test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1066680" y="1295280"/>
            <a:ext cx="6324840" cy="397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r definire le competenze e la loro taratura ci siamo basati:</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lla nostra esperienz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i programmi ministeriali in vigore fino al 2003 - 04</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i libri di testo</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838080"/>
            <a:ext cx="784872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L’uso della lingua italiana (L1) è stato indagato dal punto di vista della comprensione</a:t>
            </a:r>
            <a:r>
              <a:rPr b="0" lang="it-IT" sz="2000" spc="-1" strike="noStrike">
                <a:solidFill>
                  <a:srgbClr val="ffffff"/>
                </a:solidFill>
                <a:latin typeface="Times New Roman"/>
                <a:ea typeface="Times New Roman"/>
              </a:rPr>
              <a:t>. Sono stati proposti testi espositivi e regolativi che sono quelli che prevalgono nella comunicazione scolastica e nei libri di testo. Agli allievi è stato chiesto d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Riconoscere le informazion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lassificar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Generalizzar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Individuare relazioni esplicite e implicite (di tempo, di causa, di fin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Ricostruire la successione delle informazioni sulla base di connettivi, rinvii morfosintattici e semantici</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Rappresentare graficamente un percorso espresso in forma verbal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762120" y="990720"/>
            <a:ext cx="8076960" cy="5465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 comprensione di L2 </a:t>
            </a:r>
            <a:r>
              <a:rPr b="0" lang="en-US" sz="2400" spc="-1" strike="noStrike">
                <a:solidFill>
                  <a:srgbClr val="ffffff"/>
                </a:solidFill>
                <a:latin typeface="Times New Roman"/>
                <a:ea typeface="Times New Roman"/>
              </a:rPr>
              <a:t>(inglese) ha riguardato:</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l riconoscimento dell’informazion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 corretta attribuzione delle informazioni agli oggetti</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 produzione in L2</a:t>
            </a:r>
            <a:r>
              <a:rPr b="0" lang="en-US" sz="2400" spc="-1" strike="noStrike">
                <a:solidFill>
                  <a:srgbClr val="ffffff"/>
                </a:solidFill>
                <a:latin typeface="Times New Roman"/>
                <a:ea typeface="Times New Roman"/>
              </a:rPr>
              <a:t> (completamento di frasi) ha richiesto:</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petenze lessicali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petenze morfologiche</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838080"/>
            <a:ext cx="8534160" cy="5640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 ambito matematico</a:t>
            </a:r>
            <a:r>
              <a:rPr b="0" lang="en-US" sz="2400" spc="-1" strike="noStrike">
                <a:solidFill>
                  <a:srgbClr val="ffffff"/>
                </a:solidFill>
                <a:latin typeface="Times New Roman"/>
                <a:ea typeface="Times New Roman"/>
              </a:rPr>
              <a:t> agli allievi è stato chiesto di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durre il linguaggio grafico - statistico in aritmetico</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ffettuare misurazioni disponendo di rappresentazioni grafich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isolvere problemi disponendo della rappresentazione grafica della situazion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isolvere problemi senza disporre della rappresentazione grafic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sprimere in forma matematica delle frazioni rappresentate in forma grafica</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are procedure per il calcolo di probabilità</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21:20:38Z</dcterms:created>
  <dc:creator>ribotis alberto</dc:creator>
  <dc:description/>
  <dc:language>en-US</dc:language>
  <cp:lastModifiedBy>Ispettore Luigi Torchio</cp:lastModifiedBy>
  <dcterms:modified xsi:type="dcterms:W3CDTF">2004-11-16T14:54:53Z</dcterms:modified>
  <cp:revision>51</cp:revision>
  <dc:subject/>
  <dc:title>Presentazione di PowerPoint</dc:title>
</cp:coreProperties>
</file>